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A529-264C-4AAE-BC9B-72BA7E2CF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816C-D715-48DF-A4D4-B22174615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1A68-B596-4000-AA6C-E587123F3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06F6-8ABE-4F1E-A2C3-A7ACD795A2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70B9-2620-4DF3-B003-591AE4361E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195E-3DA9-49F0-9F7E-066C2EF0A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E0B7-DC9C-40EA-B4B4-3CA2DCA31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B4EE-4B1F-4282-ABE8-DF677C790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FD31-38D4-4D4B-AB85-75041F038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8A43-0DBD-4BA6-8607-D26EF7CC9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D3DC-1591-4231-A301-8ECE4BD2D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E39B-76C3-4653-9697-451DAA921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CFD0-D12D-4AAE-B2FA-2176A0336B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63F2-5B5E-4C0A-AD68-30036493EF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amp Journ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09120" y="1599840"/>
            <a:ext cx="5257800" cy="3429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the challenges to providing feedback to students in the mo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3828-4CAB-4660-8A01-35AEC05E78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freetechjournal.com/blog/wp-content/uploads/2010/12/press-journal.gif"/>
          <p:cNvPicPr/>
          <p:nvPr/>
        </p:nvPicPr>
        <p:blipFill>
          <a:blip r:embed="rId1"/>
          <a:stretch/>
        </p:blipFill>
        <p:spPr>
          <a:xfrm>
            <a:off x="6019920" y="1600200"/>
            <a:ext cx="2514600" cy="30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Proportional Mosaic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large the little square you were given onto the larger squ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e the larger square onto the corresponding number on the chart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9AA3-2AD5-4DB0-8781-2272EB5CB7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2B05-A037-4006-BF9A-C2A7CBB128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reakout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ant to explore the big ideas in Proportional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ant to explore how we can support students by providing feedback in the moment that supports their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3374-2CD7-472D-907F-54EA538990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 Proportional Tas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D47E-DA0E-4FB6-86AF-8BE280DD16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6858000" cy="41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 Frayer Model for 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Frayer Model and share your responses with your table gro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917E-FCC4-48A7-BEA3-7A5206B628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ack to our tas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pair - Share your strategy for solving the problem with the rest of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ther pair – Think of what feedback you can prov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witch r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6BE1-D3CE-417D-86E1-37AA87BBF9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types of responses do you anticip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C847-D80D-4612-94E6-C0D6D98541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the feedback you could provide the student. Write the feedback on a sticky note and paste on the student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he feedback from Sample 1 on its chart paper, Sample 2 on its chart paper, and so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FF2F-E628-4C85-9B45-BFC3D5F5FD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oving forw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can we scaffold the problem for struggling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can we add a challenge for students who have solved 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11AF-45FF-4404-8CA2-173FD215AA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Paul Alves</cp:lastModifiedBy>
  <dcterms:modified xsi:type="dcterms:W3CDTF">2011-08-12T03:07:24Z</dcterms:modified>
  <cp:revision>11</cp:revision>
  <dc:subject/>
  <dc:title>&lt;Title&gt;</dc:title>
</cp:coreProperties>
</file>